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202-2B40-4BCC-98C9-F02DC06F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07E-2677-4F93-B25A-2138A6B0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ADC-F130-420A-80AD-968ED14D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6105-1947-4E32-AB44-4836973B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4BCE-8117-45BC-A840-A9FA517F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1138-BDA5-4C9E-9F92-8800F1B2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7C6F-04FD-437E-B150-D14A8449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C9ED-6350-4A19-A409-E57FEB45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DA09-90D6-4105-817A-69DE2538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34C0-A60D-475D-8111-46A61CB9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63EC-7B4E-48A2-90A9-3CDDE0B0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EED-A4ED-42AE-BB7E-D122216F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620D-3FD1-4D37-866E-726607BA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7D33-F879-4AC6-A241-8E8BDA48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221B-085D-4CE4-8466-6359BB20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A578-0F8B-4A39-90BA-A5F75991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E685-A0C1-4A04-B286-FC816CE6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3BA-AE2C-460E-A0A6-1EA32935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06C5-1C9A-445B-87DA-D80C4395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E97-7A6D-49D1-A6B9-C0F9C5E2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F68-A937-4E6D-AA3E-4C3F6E42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70F-11DF-4C13-83CC-F0DEE097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E32-9360-40B1-844D-CA7CE5BE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DCE-7166-43D2-BCF5-B926B82E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C365-1B4E-42C4-AC75-C19D60F072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740F-8D30-4120-BE42-0BC9730D2F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ing Away (198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O. To understand how black people were represented in the 1986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187200"/>
            <a:ext cx="2459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event and th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295272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02436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tch the fil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ake notes whilst watching the fil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how different groups of people are being represented in particular black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y been put into the mediated stereoty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think this is a true reflection of black people at th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ories could we app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so consider mise-en-sce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al Expressions/bod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se things as a whole contribute to the representation of black culture within the fil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presentation Baby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the different representations you saw within the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3068640"/>
            <a:ext cx="4249800" cy="2448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83076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s in Playing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have we learn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representations you sa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theory you could app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the overall representation of black people in the film w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8:40:40Z</dcterms:created>
  <dc:creator>martinaos</dc:creator>
  <dc:description/>
  <dc:language>en-US</dc:language>
  <cp:lastModifiedBy>martinaos</cp:lastModifiedBy>
  <dcterms:modified xsi:type="dcterms:W3CDTF">2010-09-23T17:22:54Z</dcterms:modified>
  <cp:revision>3</cp:revision>
  <dc:subject/>
  <dc:title>Babylon (1980)</dc:title>
</cp:coreProperties>
</file>